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push.wav" ContentType="audio/x-wav"/>
  <Override PartName="/ppt/media/image2.png" ContentType="image/png"/>
  <Override PartName="/ppt/media/chimes.wav" ContentType="audio/x-wav"/>
  <Override PartName="/ppt/media/image3.gif" ContentType="image/gif"/>
  <Override PartName="/ppt/media/image4.png" ContentType="image/png"/>
  <Override PartName="/ppt/media/image6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338-D820-4E7E-A4A7-A646F90C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EC1-67F8-4D31-917A-E6EED106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1AA-1EE1-4444-87E4-B255931F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563-2004-4A51-B9C1-867567B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B98-CD2C-47E6-9898-501922C6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CE4-21E2-4BB3-A500-8BCA414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38B-C838-4338-B1A7-12721E4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4D2-CC5C-4E2C-8300-E0FD1E5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07F-C82B-4B37-BAFE-07863B75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CE2-B67C-4F75-9190-019216B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227-87E1-4FFD-9D3D-4BE96D8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F8B-E74A-4E3F-8EA2-129ABAD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F42-C1EF-4CB4-BCAE-A9CA078A2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6"/>
          <p:cNvSpPr/>
          <p:nvPr/>
        </p:nvSpPr>
        <p:spPr>
          <a:xfrm>
            <a:off x="0" y="357120"/>
            <a:ext cx="8388360" cy="551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428760" y="1785960"/>
            <a:ext cx="750096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ение круговых приме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11" descr="BACKPACK3"/>
          <p:cNvPicPr/>
          <p:nvPr/>
        </p:nvPicPr>
        <p:blipFill>
          <a:blip r:embed="rId1"/>
          <a:stretch/>
        </p:blipFill>
        <p:spPr>
          <a:xfrm>
            <a:off x="7358040" y="4730760"/>
            <a:ext cx="1785960" cy="2127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0" y="6519960"/>
            <a:ext cx="75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утюнова Карина Владимировна  ГСОШПТО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halka.u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Ташкент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орядок решения пример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хема 5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7936200" cy="5797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149640" y="2286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7221600" y="2286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933800" y="5500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пробуй реш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205000"/>
          <a:ext cx="9196560" cy="4168800"/>
        </p:xfrm>
        <a:graphic>
          <a:graphicData uri="http://schemas.openxmlformats.org/drawingml/2006/table">
            <a:tbl>
              <a:tblPr/>
              <a:tblGrid>
                <a:gridCol w="216000"/>
                <a:gridCol w="2220480"/>
                <a:gridCol w="2158560"/>
                <a:gridCol w="2373840"/>
                <a:gridCol w="2012400"/>
                <a:gridCol w="216000"/>
              </a:tblGrid>
              <a:tr h="32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+4</a:t>
                      </a:r>
                      <a:r>
                        <a:rPr b="0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+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+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+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-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-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35" descr="1944699_8caf1e39"/>
          <p:cNvPicPr/>
          <p:nvPr/>
        </p:nvPicPr>
        <p:blipFill>
          <a:blip r:embed="rId1"/>
          <a:stretch/>
        </p:blipFill>
        <p:spPr>
          <a:xfrm>
            <a:off x="572436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Проверь себ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Мои документы\Мои рисунки\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2214720" cy="2428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865080" y="257184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7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02120" y="257184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10760" y="3429000"/>
            <a:ext cx="189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1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+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293920" y="342900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09400" y="435780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9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293920" y="435780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81040" y="528624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6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293920" y="521496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4868280" y="2500200"/>
            <a:ext cx="189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4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+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651720" y="250020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867200" y="3357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20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6721920" y="342900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:\Мои документы\Мои рисунки\Рисунок14.png"/>
          <p:cNvPicPr/>
          <p:nvPr/>
        </p:nvPicPr>
        <p:blipFill>
          <a:blip r:embed="rId2"/>
          <a:stretch/>
        </p:blipFill>
        <p:spPr>
          <a:xfrm>
            <a:off x="7572240" y="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7"/>
          <p:cNvSpPr/>
          <p:nvPr/>
        </p:nvSpPr>
        <p:spPr>
          <a:xfrm>
            <a:off x="4868280" y="4286160"/>
            <a:ext cx="189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5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6723000" y="428616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4776840" y="5214960"/>
            <a:ext cx="213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262673"/>
                </a:solidFill>
                <a:uFillTx/>
                <a:latin typeface="Arial"/>
              </a:rPr>
              <a:t>18</a:t>
            </a: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-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6786720" y="5143680"/>
            <a:ext cx="164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 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1"/>
          <p:cNvSpPr/>
          <p:nvPr/>
        </p:nvSpPr>
        <p:spPr>
          <a:xfrm>
            <a:off x="1143000" y="0"/>
            <a:ext cx="7500960" cy="6715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Arial Black"/>
              </a:rPr>
              <a:t>Вы просто 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E:\Karinka-3\картинки\Леополью-2.png"/>
          <p:cNvPicPr/>
          <p:nvPr/>
        </p:nvPicPr>
        <p:blipFill>
          <a:blip r:embed="rId1"/>
          <a:stretch/>
        </p:blipFill>
        <p:spPr>
          <a:xfrm>
            <a:off x="0" y="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3734640" y="1071720"/>
            <a:ext cx="37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 Black"/>
              </a:rPr>
              <a:t>Ребят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36:44Z</dcterms:created>
  <dc:creator>User</dc:creator>
  <dc:description/>
  <dc:language>en-US</dc:language>
  <cp:lastModifiedBy>KARINA</cp:lastModifiedBy>
  <dcterms:modified xsi:type="dcterms:W3CDTF">2010-02-20T18:58:38Z</dcterms:modified>
  <cp:revision>15</cp:revision>
  <dc:subject/>
  <dc:title>Слайд 1</dc:title>
</cp:coreProperties>
</file>